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8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6.png" ContentType="image/png"/>
  <Override PartName="/ppt/media/image31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1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F977-261F-4EDF-A8B2-ECDE4DD6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48B-B1F2-4A4E-8BC5-9FD73E50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F0D-BE62-4616-AC36-59AA0A2D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B9D-7F13-4791-8F7C-5F65B791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ADFB-AAB4-48AA-9598-D5966FD5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2DC5-7335-4A3A-94A0-0BDFA148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6E3B-12D6-451F-BC77-FB4AB295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91F7-81B2-49C7-9A3B-6A52B74A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4B68-633B-4DA6-B86D-4A5D4A64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17D6-8DA8-4CC5-B538-BEA9D969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1ACF-8B21-4EDE-9698-A2E0CD55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664-A6CA-45B0-9D53-11DAD70D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DB65-B943-4321-8E7C-0F6DFA57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7F8C-92AC-4E9F-B9B5-5B5E8023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1B95-53F7-45A7-9DA2-F4BDB733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F5B7-27EC-48BE-B16F-BC255002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142E-AD88-4532-B36E-3E675A92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1A4E1-2EE3-4E70-A590-84CFCAC0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5E616-CF53-4170-A8AD-ED539564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7ABD0-5DDF-4966-8287-D1E761B6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1C8D0-C10D-49BE-B98C-52909925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0E1BC-5BC8-4671-B5F2-F9407631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853-0879-4FFF-B2F1-AC06E9A8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ED10-5E40-45AC-8475-B2211ABE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C1477-D5E2-4DB3-83B1-AC4D749B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44E6C-1017-4A2B-8D43-CFD4105A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5CF43-EFBE-464F-8D4D-9DAAAFE6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84E6F-43BA-4B92-AB49-4D9D0DB7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E0635-3FF1-4F80-A8B4-2A97D176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0CED-6093-490C-B941-83997085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7C6-071B-45FA-BEA1-22C32FE3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5E6-4DBD-4E9C-B328-06E67DC1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AFF-F22D-47F2-A7E3-4D42B3C8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F062-CC6B-4318-A5D6-19C616A2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E45D-851C-4AEA-B6BC-31363629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8C1-E4CF-4C04-9189-E884F231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5BA1-8893-419E-9BFB-42AE31A01E03}" type="slidenum"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Team358.gif"/>
          <p:cNvPicPr/>
          <p:nvPr/>
        </p:nvPicPr>
        <p:blipFill>
          <a:blip r:embed="rId3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84D0-83CA-4D66-9010-D1CE5224FFF5}" type="slidenum"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1B52-F94E-4C8E-9DC5-E42244777F49}" type="slidenum"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5.png"/><Relationship Id="rId5" Type="http://schemas.openxmlformats.org/officeDocument/2006/relationships/image" Target="../media/image14.jpe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8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012 Control System Cha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Version 3j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2/4/12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Picture 3" descr="Team358.gif"/>
          <p:cNvPicPr/>
          <p:nvPr/>
        </p:nvPicPr>
        <p:blipFill>
          <a:blip r:embed="rId2"/>
          <a:stretch/>
        </p:blipFill>
        <p:spPr>
          <a:xfrm>
            <a:off x="3780000" y="4653000"/>
            <a:ext cx="1430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alo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puts on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ssible to use in lieu of digital inpu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git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puts &amp; Outpu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WM, Digital I/O, I2C, Relay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ssible to use in lieu of solenoid outpu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en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utputs on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n power sensors via protected 24v sour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ssible to use in lieu of digital outpu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057760" y="228600"/>
            <a:ext cx="48394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967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eb966"/>
                </a:solidFill>
                <a:latin typeface="Arial"/>
              </a:rPr>
              <a:t>Module Tradeof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FPGAphoto"/>
          <p:cNvPicPr/>
          <p:nvPr/>
        </p:nvPicPr>
        <p:blipFill>
          <a:blip r:embed="rId1"/>
          <a:stretch/>
        </p:blipFill>
        <p:spPr>
          <a:xfrm>
            <a:off x="7315200" y="1600200"/>
            <a:ext cx="1828800" cy="1560600"/>
          </a:xfrm>
          <a:prstGeom prst="rect">
            <a:avLst/>
          </a:prstGeom>
          <a:ln w="0">
            <a:noFill/>
          </a:ln>
        </p:spPr>
      </p:pic>
      <p:pic>
        <p:nvPicPr>
          <p:cNvPr id="201" name="Title 1" descr=""/>
          <p:cNvPicPr/>
          <p:nvPr/>
        </p:nvPicPr>
        <p:blipFill>
          <a:blip r:embed="rId2"/>
          <a:stretch/>
        </p:blipFill>
        <p:spPr>
          <a:xfrm>
            <a:off x="463680" y="-13968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eld Programmable Gate Arra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88280" indent="-21924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Huge collection of yes/no &amp; sequential logic blocks in a massive routing grid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298160" indent="-174960"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ogic cells combine multiple inputs in boolean way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3" marL="1298160" indent="-174960"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lip-flops &amp; registers are used for sequential logic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3" marL="1298160" indent="-174960"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ll connected by reconfigurable wires via programmable switch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088280" indent="-21924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eld Programmable just means the function of the board is defined by our program image, not when the hardware is ma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88280" indent="-21924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t trades custom chip efficiency (size, power, performance), e.g., cell phone,  for adaptability and different cost factors, e.g., cell phone base station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here are FPGAs found around the house?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udio/Video (signal processing) - PC, TV, entertainment system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utomotive infotainment system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ireless base stations keeping up with rapidly evolving cell phone featur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0" y="12193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411120"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T a computer processor like a Pentium or Power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411120"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ort of a generic reconfigurable custom digital (not analog) circ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5092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gramming it is like doing a circuit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5092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RC uses it for super fast data input collection and out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5092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ams do not touch it directly, only download updated FRC im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228600" y="1981080"/>
            <a:ext cx="396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RIO FRC II adds a protective  conformal coating to the electronics helping to guard against metal dust and fragments that work their way into the case from shorting out the circu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riginal cRIO FRC had user installable gaskets that many teams never used or even knew what they were f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G:\FIRST\Technical\ControlSystemPost2009\cRIO FRC II\ConformalCoating2.jpg"/>
          <p:cNvPicPr/>
          <p:nvPr/>
        </p:nvPicPr>
        <p:blipFill>
          <a:blip r:embed="rId2"/>
          <a:stretch/>
        </p:blipFill>
        <p:spPr>
          <a:xfrm>
            <a:off x="4191120" y="1523880"/>
            <a:ext cx="4632120" cy="2676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G:\FIRST\Technical\ControlSystemPost2009\cRIO FRC II\cRIOgaskets.jpg"/>
          <p:cNvPicPr/>
          <p:nvPr/>
        </p:nvPicPr>
        <p:blipFill>
          <a:blip r:embed="rId3"/>
          <a:stretch/>
        </p:blipFill>
        <p:spPr>
          <a:xfrm>
            <a:off x="1676520" y="5029200"/>
            <a:ext cx="27813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3"/>
          <p:cNvSpPr/>
          <p:nvPr/>
        </p:nvSpPr>
        <p:spPr>
          <a:xfrm>
            <a:off x="76320" y="2590920"/>
            <a:ext cx="9067680" cy="256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 Lin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O-9074 (old) : http://sine.ni.com/nips/cds/view/p/lang/en/nid/2039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O-9076 (new-similar) : http://sine.ni.com/nips/cds/view/p/lang/en/nid/2097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O 9075/9076 Specs: http://www.ni.com/pdf/manuals/375650a.pd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ison Tables: http://sine.ni.com/ds/app/doc/p/id/ds-204/lang/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scale Processor Co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C II: http://cache.freescale.com/files/32bit/doc/ref_manual/e300coreRM.pd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C I: http://www.iuma.ulpgc.es/~nunez/clases-sed-mai-68ppc/powerpc_MPC603EUM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Team358.gif"/>
          <p:cNvPicPr/>
          <p:nvPr/>
        </p:nvPicPr>
        <p:blipFill>
          <a:blip r:embed="rId2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2280960" y="5229360"/>
            <a:ext cx="5144040" cy="119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J Regional NI Survey of extra modules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% of teams (5) used an extra Digital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% of teams (2) used an extra Analog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% of teams (2) used an extra Solenoid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613440" y="6488280"/>
            <a:ext cx="52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Photo credit for new cRIO FRC II- Arthur Dutra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543960" y="1371600"/>
            <a:ext cx="739224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ranty on cRIO units are 3-years from the day the unit ships from N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 FRC 2 cRIO FAQ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s://decibel.ni.com/content/docs/DOC-191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51920" y="12189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dules &amp; breakou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698760" indent="-196560">
              <a:spcBef>
                <a:spcPts val="550"/>
              </a:spcBef>
              <a:buClr>
                <a:srgbClr val="ffffff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ut old module slot positions have chang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gramming-LV,C++,Jav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PILib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698760" indent="-196560"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light modifications to make it easier to write portable code between the four and eight slot controller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PG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698760" indent="-196560">
              <a:spcBef>
                <a:spcPts val="550"/>
              </a:spcBef>
              <a:buClr>
                <a:srgbClr val="ffffff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del is new, but the FRC design circuit (hence behavior) will be the same for both cRIO FRC I&amp;II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wered for competition via the protected 24v output on the Power Distribution Pan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rranty is 3-years from the NI ship d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4" descr="sm_AnalogModule.jpg"/>
          <p:cNvPicPr/>
          <p:nvPr/>
        </p:nvPicPr>
        <p:blipFill>
          <a:blip r:embed="rId2"/>
          <a:stretch/>
        </p:blipFill>
        <p:spPr>
          <a:xfrm>
            <a:off x="6705720" y="990720"/>
            <a:ext cx="2084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63680" y="64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0" y="990720"/>
            <a:ext cx="9144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Hardwar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alf the slots (4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(1) each: analog/digital/solenoid module, plus one extra of the thre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4.4” shorter in length, same height &amp; width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~two thirds the weight –new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chassis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alone is 1.42 lbs vs. original’s 2.05 lb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ew conformal coating to minimize damage from metal dust and bits and piec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ost/Feature Optimized Between cRIO-9075 and cRIO-9076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rocessor-2x cache/memory bandwidth (2008 upgrade of the 2003 architecture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ncreased Capability (Doubled from FRC I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008720" indent="-203400">
              <a:spcBef>
                <a:spcPts val="349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torage (512MB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2" marL="1008720" indent="-203400">
              <a:spcBef>
                <a:spcPts val="349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ystem memory (256MB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o External DIP switch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008720" indent="-203400">
              <a:spcBef>
                <a:spcPts val="349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ame services performed by cRIO Imaging Tool or SAFE MODE via holding the Reset button for 5 sec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(1) Ethernet port – cameras get connected to and accessed from the DLink for processing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ower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Two-wire connector (new one can fit the older cRIO, but old 4-wire does not fit new cRIO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9-30v (vs old 19-30v)  operating voltage-24v recommended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5W vs old 20W max power consumption (w/full set of the most power hungry modules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0" y="9144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54320" indent="-3409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54320" indent="-3409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I Software Install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ision - Since the older cRIO has half the memory, and since the vision module has grown substantially in recent LabVIEW releases, the imaging tool installs a simplified version on the 8 slo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940680" indent="-189720">
              <a:spcBef>
                <a:spcPts val="476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Smaller, stripped down, version of the Vision package (IMAQ) on the 8-slot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940680" indent="-189720">
              <a:spcBef>
                <a:spcPts val="476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The complete edition is installed on the 4-slot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940680" indent="-18972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features that were removed in the older cRIO FRC I were QR codes, meter reading, OCR, and other instrumentation and inspection features. Another beefy feature that we thought was not needed was the calibration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454320" indent="-3409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IO Image T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Still a single image zip will apply to both cRIO FRC I&amp;II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Will handle cRIO FRC I&amp;II differences invisibly by extracting the appropriated files from the image zip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Provide virtual DIP switch controls for cRIO FRC II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Help validate modules are in the correct slots for both FRC I &amp; FRC II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5726520" y="162864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LD (2009-2011)-cRIO FRC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5685120" y="391320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EW (2012)-cRIO FRC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8000" y="2205000"/>
          <a:ext cx="4824360" cy="3794040"/>
        </p:xfrm>
        <a:graphic>
          <a:graphicData uri="http://schemas.openxmlformats.org/drawingml/2006/table">
            <a:tbl>
              <a:tblPr/>
              <a:tblGrid>
                <a:gridCol w="1336680"/>
                <a:gridCol w="1643040"/>
                <a:gridCol w="1844640"/>
              </a:tblGrid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C cRIO Version Compari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 FRC II (201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C I (2009-201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O 9075/90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O 9072/90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slo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(+2 unusabl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-2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s-chas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”(l) x 3.5”(w) x 2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(h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4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(l) x 3.5”(w) x 2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(h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-chas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2 lb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5 lb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ng Voltag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-30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-30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Memo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rage Memo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scale MPC51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scale MPC5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data/instr cach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KB/32K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KB/16K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PG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partan-6 LX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partan-3 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88 K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 K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logic ce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6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0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multipli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IO transfer 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Gb/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2 Mb/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10" descr="Team358.gif"/>
          <p:cNvPicPr/>
          <p:nvPr/>
        </p:nvPicPr>
        <p:blipFill>
          <a:blip r:embed="rId2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90"/>
          <p:cNvGrpSpPr/>
          <p:nvPr/>
        </p:nvGrpSpPr>
        <p:grpSpPr>
          <a:xfrm>
            <a:off x="5618160" y="4251240"/>
            <a:ext cx="2514600" cy="2057400"/>
            <a:chOff x="5618160" y="4251240"/>
            <a:chExt cx="2514600" cy="2057400"/>
          </a:xfrm>
        </p:grpSpPr>
        <p:sp>
          <p:nvSpPr>
            <p:cNvPr id="140" name="Rectangle 1088"/>
            <p:cNvSpPr/>
            <p:nvPr/>
          </p:nvSpPr>
          <p:spPr>
            <a:xfrm>
              <a:off x="5618160" y="4251240"/>
              <a:ext cx="2514600" cy="2057400"/>
            </a:xfrm>
            <a:prstGeom prst="rect">
              <a:avLst/>
            </a:prstGeom>
            <a:solidFill>
              <a:srgbClr val="ceb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1" name="Picture 88" descr="cRIO-FRC-II"/>
            <p:cNvPicPr/>
            <p:nvPr/>
          </p:nvPicPr>
          <p:blipFill>
            <a:blip r:embed="rId3"/>
            <a:stretch/>
          </p:blipFill>
          <p:spPr>
            <a:xfrm>
              <a:off x="5715000" y="4343400"/>
              <a:ext cx="2362320" cy="18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Rectangle 1089"/>
          <p:cNvSpPr/>
          <p:nvPr/>
        </p:nvSpPr>
        <p:spPr>
          <a:xfrm>
            <a:off x="5486400" y="2057400"/>
            <a:ext cx="2971800" cy="15238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89"/>
          <p:cNvSpPr/>
          <p:nvPr/>
        </p:nvSpPr>
        <p:spPr>
          <a:xfrm>
            <a:off x="6000840" y="351936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ote 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ew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slot configu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90" descr="sm_FRC-cRIO-Modules"/>
          <p:cNvPicPr/>
          <p:nvPr/>
        </p:nvPicPr>
        <p:blipFill>
          <a:blip r:embed="rId4"/>
          <a:stretch/>
        </p:blipFill>
        <p:spPr>
          <a:xfrm>
            <a:off x="5562720" y="2133720"/>
            <a:ext cx="27972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324000" y="103320"/>
            <a:ext cx="8418240" cy="1719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0" y="1600200"/>
            <a:ext cx="914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ams can choose to use either cRIO FRC I or FRC II for the 2012 ga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RIO FRC II will not be useable until the 2012 Kickoff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riginal cRIO FRC I no longer available for purchase after 9/30/11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927000" indent="-262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It will continue to be supported by NI tech support 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ew conformal coating means less damage from metal dust and fragment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wo slots lost = less potential capabili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ut only affects maybe 5% of teams in one way or another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spcBef>
                <a:spcPts val="3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Slots 1-3 on the cRIO FRC II are, in order, 1:Analog, 2:Digital, 3:Solenoid. Slot 4 on the cRIO FRC II will be a "wildcard" and one extra Analog, Digital, or Solenoid module may be used.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spcBef>
                <a:spcPts val="3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For the 8-slot cRIO FRC I, slots 4 and 8 will now be unused. Slots 1-3 are in the same order as the cRIO FRC II, and Slots 5-7 are in the same order again (5: Analog, 6: Digital, 7: Solenoid). So you may have two of each type of module.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maller/Lighter = easier to place and meet weigh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creased memory/storage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Not noticeable running standard user program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etter advantage of NI software (ease-of-use, additional services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Handle more complicated/efficient vision processing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More room for on-board data logging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ower  down to 9v = easier benchtesting NOT for competi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roubleshooting steps change a littl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1600200"/>
            <a:ext cx="914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268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RC teams that were registered for the 2011 season may use the 2011 discount right away.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ams that register for the 2012 season may use the 2012 discount starting Oct 3, 2011.  So, teams can use both the 2011 &amp; 2012 allocation at one tim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7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egistered FRC teams get one Discount Credit each calendar year to purchase (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all NI at 1-866-511-6285 to order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93360" indent="-267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new cRIO FRC II kit (with 1 ea. 9201/9403/9472 modules)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$525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93360" indent="-267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new chassis only (no modules)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$285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93360" indent="-267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2) in any combination of both (1kit plus one chassis, 2 chassis-only, 2 kits) the items must be purchased in 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single ord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93360" indent="-267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dividual modules: analog/solenoid $152, digital $174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ams may order additional cRIO FRC IIs at an educational price and individual modules at a slight discoun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7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new cRIO FRC II may be ordered beginning Monday, Oct 3rd.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7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itial deliveries will ship late November or early Decembe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7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oftware for using/programming the new cRIO FRCII will not be available until kickoff.  Beta teams will be testing this software starting in Septembe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1" descr="2012_cRIO_slots"/>
          <p:cNvPicPr/>
          <p:nvPr/>
        </p:nvPicPr>
        <p:blipFill>
          <a:blip r:embed="rId1"/>
          <a:stretch/>
        </p:blipFill>
        <p:spPr>
          <a:xfrm>
            <a:off x="5410080" y="2255760"/>
            <a:ext cx="3733920" cy="1814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4" descr="DLink-2"/>
          <p:cNvPicPr/>
          <p:nvPr/>
        </p:nvPicPr>
        <p:blipFill>
          <a:blip r:embed="rId2"/>
          <a:stretch/>
        </p:blipFill>
        <p:spPr>
          <a:xfrm>
            <a:off x="2209680" y="3581280"/>
            <a:ext cx="2160720" cy="965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1" name="Picture 29" descr=""/>
          <p:cNvPicPr/>
          <p:nvPr/>
        </p:nvPicPr>
        <p:blipFill>
          <a:blip r:embed="rId3"/>
          <a:stretch/>
        </p:blipFill>
        <p:spPr>
          <a:xfrm>
            <a:off x="2895480" y="4876920"/>
            <a:ext cx="2210040" cy="177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8" descr=""/>
          <p:cNvPicPr/>
          <p:nvPr/>
        </p:nvPicPr>
        <p:blipFill>
          <a:blip r:embed="rId4"/>
          <a:stretch/>
        </p:blipFill>
        <p:spPr>
          <a:xfrm>
            <a:off x="2209680" y="1905120"/>
            <a:ext cx="901800" cy="134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3" name="Picture 26" descr=""/>
          <p:cNvPicPr/>
          <p:nvPr/>
        </p:nvPicPr>
        <p:blipFill>
          <a:blip r:embed="rId5"/>
          <a:stretch/>
        </p:blipFill>
        <p:spPr>
          <a:xfrm>
            <a:off x="3657600" y="1371600"/>
            <a:ext cx="878040" cy="140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4" name="Picture 25" descr=""/>
          <p:cNvPicPr/>
          <p:nvPr/>
        </p:nvPicPr>
        <p:blipFill>
          <a:blip r:embed="rId6"/>
          <a:stretch/>
        </p:blipFill>
        <p:spPr>
          <a:xfrm>
            <a:off x="76320" y="2666880"/>
            <a:ext cx="1881000" cy="1881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5" name="Title 1" descr=""/>
          <p:cNvPicPr/>
          <p:nvPr/>
        </p:nvPicPr>
        <p:blipFill>
          <a:blip r:embed="rId7"/>
          <a:stretch/>
        </p:blipFill>
        <p:spPr>
          <a:xfrm>
            <a:off x="384120" y="-171360"/>
            <a:ext cx="8229600" cy="171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Team358.gif"/>
          <p:cNvPicPr/>
          <p:nvPr/>
        </p:nvPicPr>
        <p:blipFill>
          <a:blip r:embed="rId8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sp>
        <p:nvSpPr>
          <p:cNvPr id="157" name="Straight Connector 19"/>
          <p:cNvSpPr/>
          <p:nvPr/>
        </p:nvSpPr>
        <p:spPr>
          <a:xfrm>
            <a:off x="1143000" y="4038480"/>
            <a:ext cx="1523880" cy="3049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21"/>
          <p:cNvSpPr/>
          <p:nvPr/>
        </p:nvSpPr>
        <p:spPr>
          <a:xfrm flipH="1" flipV="1">
            <a:off x="2742840" y="3123720"/>
            <a:ext cx="152280" cy="12193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 flipV="1">
            <a:off x="3048120" y="2742840"/>
            <a:ext cx="838080" cy="16002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35"/>
          <p:cNvSpPr/>
          <p:nvPr/>
        </p:nvSpPr>
        <p:spPr>
          <a:xfrm flipV="1">
            <a:off x="3276720" y="3733560"/>
            <a:ext cx="2895480" cy="685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traight Connector 46"/>
          <p:cNvSpPr/>
          <p:nvPr/>
        </p:nvSpPr>
        <p:spPr>
          <a:xfrm>
            <a:off x="4419720" y="2133720"/>
            <a:ext cx="1752480" cy="1371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&lt;i&gt;FIRST&lt;/i&gt; 2010 Luminary Micro Speed Controller"/>
          <p:cNvPicPr/>
          <p:nvPr/>
        </p:nvPicPr>
        <p:blipFill>
          <a:blip r:embed="rId9"/>
          <a:stretch/>
        </p:blipFill>
        <p:spPr>
          <a:xfrm>
            <a:off x="685800" y="5334120"/>
            <a:ext cx="1428840" cy="1218960"/>
          </a:xfrm>
          <a:prstGeom prst="rect">
            <a:avLst/>
          </a:prstGeom>
          <a:ln w="0">
            <a:noFill/>
          </a:ln>
        </p:spPr>
      </p:pic>
      <p:sp>
        <p:nvSpPr>
          <p:cNvPr id="163" name="Straight Connector 29"/>
          <p:cNvSpPr/>
          <p:nvPr/>
        </p:nvSpPr>
        <p:spPr>
          <a:xfrm>
            <a:off x="3276720" y="4419720"/>
            <a:ext cx="30456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traight Connector 60"/>
          <p:cNvSpPr/>
          <p:nvPr/>
        </p:nvSpPr>
        <p:spPr>
          <a:xfrm flipH="1">
            <a:off x="1447920" y="6019200"/>
            <a:ext cx="1676160" cy="75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3" descr="&lt;i&gt;FIRST&lt;/i&gt; 2010 Luminary Micro Speed Controller"/>
          <p:cNvPicPr/>
          <p:nvPr/>
        </p:nvPicPr>
        <p:blipFill>
          <a:blip r:embed="rId10"/>
          <a:stretch/>
        </p:blipFill>
        <p:spPr>
          <a:xfrm>
            <a:off x="4114800" y="2819520"/>
            <a:ext cx="895320" cy="7635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0"/>
          <p:cNvSpPr/>
          <p:nvPr/>
        </p:nvSpPr>
        <p:spPr>
          <a:xfrm>
            <a:off x="4528080" y="3368520"/>
            <a:ext cx="80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1676880" y="617220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 op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231120" y="44956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t teth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46"/>
          <p:cNvSpPr/>
          <p:nvPr/>
        </p:nvSpPr>
        <p:spPr>
          <a:xfrm>
            <a:off x="4724280" y="3276720"/>
            <a:ext cx="106704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46"/>
          <p:cNvSpPr/>
          <p:nvPr/>
        </p:nvSpPr>
        <p:spPr>
          <a:xfrm>
            <a:off x="7620120" y="5791320"/>
            <a:ext cx="45720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60"/>
          <p:cNvSpPr/>
          <p:nvPr/>
        </p:nvSpPr>
        <p:spPr>
          <a:xfrm flipH="1">
            <a:off x="7620120" y="6172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traight Connector 19"/>
          <p:cNvSpPr/>
          <p:nvPr/>
        </p:nvSpPr>
        <p:spPr>
          <a:xfrm>
            <a:off x="7620120" y="6553080"/>
            <a:ext cx="4572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8155080" y="6367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8154360" y="6019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C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40"/>
          <p:cNvSpPr/>
          <p:nvPr/>
        </p:nvSpPr>
        <p:spPr>
          <a:xfrm>
            <a:off x="8154720" y="56386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C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traight Connector 46"/>
          <p:cNvSpPr/>
          <p:nvPr/>
        </p:nvSpPr>
        <p:spPr>
          <a:xfrm>
            <a:off x="7601040" y="541008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137080" y="5257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2" descr="2012_cRIO_slots"/>
          <p:cNvPicPr/>
          <p:nvPr/>
        </p:nvPicPr>
        <p:blipFill>
          <a:blip r:embed="rId1"/>
          <a:stretch/>
        </p:blipFill>
        <p:spPr>
          <a:xfrm>
            <a:off x="5181480" y="2514600"/>
            <a:ext cx="3733920" cy="1814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1" descr="12v5vConverter"/>
          <p:cNvPicPr/>
          <p:nvPr/>
        </p:nvPicPr>
        <p:blipFill>
          <a:blip r:embed="rId2"/>
          <a:stretch/>
        </p:blipFill>
        <p:spPr>
          <a:xfrm>
            <a:off x="3429000" y="5257800"/>
            <a:ext cx="609480" cy="609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0" name="Picture 30" descr="DSC"/>
          <p:cNvPicPr/>
          <p:nvPr/>
        </p:nvPicPr>
        <p:blipFill>
          <a:blip r:embed="rId3"/>
          <a:stretch/>
        </p:blipFill>
        <p:spPr>
          <a:xfrm>
            <a:off x="1066680" y="152388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5" descr=""/>
          <p:cNvPicPr/>
          <p:nvPr/>
        </p:nvPicPr>
        <p:blipFill>
          <a:blip r:embed="rId4"/>
          <a:stretch/>
        </p:blipFill>
        <p:spPr>
          <a:xfrm>
            <a:off x="5715000" y="4876920"/>
            <a:ext cx="2209680" cy="1773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4" descr="DLink-2"/>
          <p:cNvPicPr/>
          <p:nvPr/>
        </p:nvPicPr>
        <p:blipFill>
          <a:blip r:embed="rId5"/>
          <a:stretch/>
        </p:blipFill>
        <p:spPr>
          <a:xfrm>
            <a:off x="2460600" y="6172200"/>
            <a:ext cx="1273320" cy="568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1020960" cy="1633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4" name="Picture 3" descr=""/>
          <p:cNvPicPr/>
          <p:nvPr/>
        </p:nvPicPr>
        <p:blipFill>
          <a:blip r:embed="rId7"/>
          <a:stretch/>
        </p:blipFill>
        <p:spPr>
          <a:xfrm>
            <a:off x="1727280" y="2530440"/>
            <a:ext cx="1595520" cy="2006640"/>
          </a:xfrm>
          <a:prstGeom prst="rect">
            <a:avLst/>
          </a:prstGeom>
          <a:ln w="0">
            <a:noFill/>
          </a:ln>
        </p:spPr>
      </p:pic>
      <p:pic>
        <p:nvPicPr>
          <p:cNvPr id="185" name="Title 1" descr=""/>
          <p:cNvPicPr/>
          <p:nvPr/>
        </p:nvPicPr>
        <p:blipFill>
          <a:blip r:embed="rId8"/>
          <a:stretch/>
        </p:blipFill>
        <p:spPr>
          <a:xfrm>
            <a:off x="463680" y="146160"/>
            <a:ext cx="8229600" cy="1719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Team358.gif"/>
          <p:cNvPicPr/>
          <p:nvPr/>
        </p:nvPicPr>
        <p:blipFill>
          <a:blip r:embed="rId9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sp>
        <p:nvSpPr>
          <p:cNvPr id="187" name="Straight Connector 29"/>
          <p:cNvSpPr/>
          <p:nvPr/>
        </p:nvSpPr>
        <p:spPr>
          <a:xfrm>
            <a:off x="3098880" y="3673440"/>
            <a:ext cx="2997000" cy="257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traight Connector 23"/>
          <p:cNvSpPr/>
          <p:nvPr/>
        </p:nvSpPr>
        <p:spPr>
          <a:xfrm>
            <a:off x="3098880" y="3673440"/>
            <a:ext cx="2235240" cy="212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30"/>
          <p:cNvSpPr/>
          <p:nvPr/>
        </p:nvSpPr>
        <p:spPr>
          <a:xfrm>
            <a:off x="1905120" y="1981080"/>
            <a:ext cx="38088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34"/>
          <p:cNvSpPr/>
          <p:nvPr/>
        </p:nvSpPr>
        <p:spPr>
          <a:xfrm flipV="1">
            <a:off x="3504600" y="5866920"/>
            <a:ext cx="22860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40"/>
          <p:cNvSpPr/>
          <p:nvPr/>
        </p:nvSpPr>
        <p:spPr>
          <a:xfrm>
            <a:off x="2971800" y="4114800"/>
            <a:ext cx="83808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42"/>
          <p:cNvSpPr/>
          <p:nvPr/>
        </p:nvSpPr>
        <p:spPr>
          <a:xfrm flipH="1" flipV="1">
            <a:off x="2514600" y="2666520"/>
            <a:ext cx="3581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45"/>
          <p:cNvSpPr/>
          <p:nvPr/>
        </p:nvSpPr>
        <p:spPr>
          <a:xfrm>
            <a:off x="2743200" y="2819520"/>
            <a:ext cx="41911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traight Connector 56"/>
          <p:cNvSpPr/>
          <p:nvPr/>
        </p:nvSpPr>
        <p:spPr>
          <a:xfrm flipV="1">
            <a:off x="990720" y="3200040"/>
            <a:ext cx="205740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Straight Connector 35"/>
          <p:cNvSpPr/>
          <p:nvPr/>
        </p:nvSpPr>
        <p:spPr>
          <a:xfrm flipV="1">
            <a:off x="3124080" y="2971440"/>
            <a:ext cx="381024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504960" y="312408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tional 24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5940360" y="42670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ote 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ew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slot configu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9:08:01Z</dcterms:created>
  <dc:creator>Mark McLeod</dc:creator>
  <dc:description/>
  <dc:language>en-US</dc:language>
  <cp:lastModifiedBy>Paul</cp:lastModifiedBy>
  <dcterms:modified xsi:type="dcterms:W3CDTF">2013-05-01T13:45:49Z</dcterms:modified>
  <cp:revision>213</cp:revision>
  <dc:subject/>
  <dc:title>cRIO FRC II</dc:title>
</cp:coreProperties>
</file>